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C7C-5E45-4E38-B897-DB5FD51C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22-9621-4481-9032-C14AF70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EF3-BC2F-4274-A132-2AE12E7D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1A7-BD45-4C86-AB85-3BC13E90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F91-0B45-45CC-A17A-716B328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FAA-025F-407C-BB3A-EF79AD67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22B-5B9B-4861-B0A2-57A8236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63D-BDB5-4354-959C-12E17CF0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09B-680A-4951-9E03-5FFD88BE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70D-C404-4CFB-8F49-F654DCD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72F-8B2A-4824-97EB-B605449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E2C-46CE-4B40-8CD9-73ED9E5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3A1-E06F-4442-ACDD-D402EE383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04640"/>
            <a:ext cx="5514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 the pictur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715000" cy="3676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5373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a ………………. There are a …………………., a ………………… and two …………… on the left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ig ………….. Is on the right. In this room there are three ……………… and brown ………………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1058760"/>
            <a:ext cx="6769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715000" cy="367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00000" y="33336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swe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37372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bedroom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ere are a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upboard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    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desk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wo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hair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n the left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ig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b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on the right. In this room there are three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lamp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nd brown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ur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Vista parcial salón"/>
          <p:cNvPicPr/>
          <p:nvPr/>
        </p:nvPicPr>
        <p:blipFill>
          <a:blip r:embed="rId1"/>
          <a:stretch/>
        </p:blipFill>
        <p:spPr>
          <a:xfrm>
            <a:off x="1258920" y="784080"/>
            <a:ext cx="6985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776160"/>
            <a:ext cx="6048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641520"/>
            <a:ext cx="77058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873000"/>
            <a:ext cx="75614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66760" y="719280"/>
            <a:ext cx="68104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16:36Z</dcterms:created>
  <dc:creator>rmi</dc:creator>
  <dc:description/>
  <dc:language>en-US</dc:language>
  <cp:lastModifiedBy>rmi</cp:lastModifiedBy>
  <dcterms:modified xsi:type="dcterms:W3CDTF">2009-04-25T14:15:49Z</dcterms:modified>
  <cp:revision>3</cp:revision>
  <dc:subject/>
  <dc:title>Diapositiva 1</dc:title>
</cp:coreProperties>
</file>